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FB40-6F23-43A8-AA66-EF4B663CA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6227-0645-471B-BB87-899382C8E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AC50-F90B-4D83-8196-93A10FD06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6C73-BCEA-41FD-B202-6D0FBA2100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837C-E7AB-46C1-804C-89A80A34F7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3EC4-7D53-47B5-9145-A9885CA56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B1FB-78FC-46E2-8D7E-2F84B3D0F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A113-1105-4B1E-AAA8-0AE7E6654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22D98-0E43-4F49-98C2-14DBFF038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094A-0EAD-4716-B3AD-193FBD3AD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B865-A50C-4239-BB82-7FFB6F95D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DD58-5F26-4291-A4BD-A702B1BDE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5B7C-232F-485E-AD36-5B09AEC5AC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57FB-B47A-44EF-8C21-6941898E3F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25909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BREAKOU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LEARNING GOALS, CONSOLIDATING QUESTIONS AND GOOD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What’s the Conn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030a0"/>
                </a:solidFill>
                <a:uFillTx/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e</a:t>
            </a:r>
            <a:r>
              <a:rPr b="0" lang="en-CA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ill use Learning Goals to interpret important mathematics and target the mathematical thinking we want to expose and evoke with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e will recognize the link between Learning Goals, Curriculum Expectations, Consolidation Questions, and Big Ideas and the reason for attending to these prior to a lesson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e will know the purpose of considering what a good answer would look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71C5-DAAB-4762-AB8D-E0D31EB7A3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8DAF-F345-4EFA-9A89-A1147D676E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2d050"/>
                </a:solidFill>
                <a:latin typeface="Arial Rounded MT Bold"/>
              </a:rPr>
              <a:t>Minds On</a:t>
            </a:r>
            <a:endParaRPr b="0" lang="en-US" sz="6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iscuss and decide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th a partner at your table what the goal of each action migh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22C1-1933-4CDE-AD27-58ED4D10F6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762120" y="2286000"/>
            <a:ext cx="7924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usband buys his wife a dozen r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buy a turtle from the pet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apply to law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new graduate enrols in Spanish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 employee asks for and accepts extra hours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r son cleans your car without being as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2b5ca9"/>
                </a:solidFill>
                <a:latin typeface="Arial Rounded MT Bold"/>
              </a:rPr>
              <a:t>Conclu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1980720"/>
            <a:ext cx="7315200" cy="259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 Rounded MT Bold"/>
              </a:rPr>
              <a:t>For every action we take we have a goal in m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0113-D10E-4A2D-A97A-A548D12067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Rounded MT Bold"/>
              </a:rPr>
              <a:t>Action</a:t>
            </a:r>
            <a:endParaRPr b="0" lang="en-US" sz="6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select a group of 3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40 minutes to complete 2 of the 3 activities on your 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LM 2.1  Which is Be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LM 2.2. The Learning Goal-Consolid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LM 2.3  Improving Learning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F385-A69D-4941-8BFF-03D057F80B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 Rounded MT Bold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761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Whole Group</a:t>
            </a:r>
            <a:r>
              <a:rPr b="1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Sharing - activity decisions,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      thoughts,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Questions to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What was challenging about these tasks?  What did you find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What is the difference between a learning goal and a curriculum expectation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When/why might you choose not to reveal the LG at the beginning of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Why is it important for us to consider what a good answer will look lik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D3B9-5B73-4EF7-B46F-75DED37268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7030a0"/>
                </a:solidFill>
                <a:latin typeface="Arial"/>
              </a:rPr>
              <a:t>Reflection</a:t>
            </a: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  </a:t>
            </a:r>
            <a:r>
              <a:rPr b="0" i="1" lang="en-CA" sz="3000" spc="-1" strike="noStrike">
                <a:solidFill>
                  <a:srgbClr val="7030a0"/>
                </a:solidFill>
                <a:latin typeface="Arial"/>
              </a:rPr>
              <a:t>Take a few moments to . . .</a:t>
            </a:r>
            <a:endParaRPr b="0" lang="en-US" sz="3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990360"/>
            <a:ext cx="8077320" cy="2438280"/>
          </a:xfrm>
          <a:prstGeom prst="rect">
            <a:avLst/>
          </a:prstGeom>
          <a:noFill/>
          <a:ln w="12600">
            <a:solidFill>
              <a:srgbClr val="002060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1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Journal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How are you providing Learning Goals for your studen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hy is it useful to consider the Consolidating Question(s), to be used at the end of a lesson, once you have determined the Learning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632A-50DC-473C-9A18-BD610D3661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922320" cy="381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914400" y="3733920"/>
            <a:ext cx="73915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andana  - record a new strategy or idea I lear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out this break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t-its:  Post a question or a comment about 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d CQ’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age Builder</cp:lastModifiedBy>
  <dcterms:modified xsi:type="dcterms:W3CDTF">2011-08-07T19:42:42Z</dcterms:modified>
  <cp:revision>67</cp:revision>
  <dc:subject/>
  <dc:title>&lt;Title&gt;</dc:title>
</cp:coreProperties>
</file>